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1B1-4B96-4365-AF79-7274C5DC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B2F-C2CE-4E64-844B-95E7F72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18C5F-180F-47D1-BC00-DBD436D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A316A-2AB8-4968-85B9-AEF1CC08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8A6AD-FEA7-478B-AB59-C6C6501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09A8-D397-4694-A844-CA810E9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EC92-6C45-42E6-B2C7-6BC79A88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D3E01-16BB-4A8E-9473-219F3DB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B18F-861E-435A-B4F1-53FAA73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948C8-1A6D-424C-B096-EC40D21B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C860E-4EBD-4A2D-B644-ADE58C5B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C8E05-98FC-4F51-A306-15A175B5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586-E1BB-4E1F-8495-A34DFC7E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41D7A-4D62-4CF3-82DB-0ABD7E5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DFF5A-75B8-412E-AF67-E3C4FDF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1581F-CA13-4450-8A10-C70EC5F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B857-5239-4D38-85D7-D9494CD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F6079-C85F-4457-A6D1-F355C66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08ACE-3E0B-429F-8119-400336D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5454A-7007-45E7-A1C0-6BC2ED5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11A4A-181D-4977-A86E-1E1F257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6E04D-FD44-4E8E-9F43-48A510E1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CBC8-982E-4EEB-BB60-FF29BC00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929-D92C-4CD6-A3E9-4AABA2F3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1BC1A-B679-473E-B29D-46CBE067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B9C1D9-37C9-417E-B259-305A4766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78AB0D-A019-4D8E-9FBE-49E29A1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85C689-1EE7-4636-8907-224EA4AA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B0FBFE-7E3C-489A-B98A-FB0484D7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AF92D2-431E-439F-B105-64218A0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3E606D-F317-4E91-BD11-8595509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227C81-FB10-4F1C-93F1-B0BE138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E348CA-2F18-4A15-AFFA-1FC4073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08A5C-888C-41B2-9E48-5A3F326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07E05-09F4-42F2-AC05-1F6032E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EAB08-7CD2-4065-9F4F-07DF22E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07973E-F0EF-42FC-89F9-C12086BC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A5D348-D3FC-4176-8A49-4C66B3B9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D8710-CCCF-48DB-9CBF-A31EC73F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A9A05-2FC6-44B3-8D0C-875D7E48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E39E8-B2A3-46EF-9641-F267585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177B1-A3C4-4703-A514-9F07CF3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D0622-5266-4D03-B4CE-364C356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CC52D-E7F3-4C8B-B42B-DD3C9F36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ABB7-3DAC-4FBD-9530-7A4F7FC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626B8-7EEF-48F8-9A03-031E22FF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A9D5A-205A-48AB-B441-3C62176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B519D-0678-44F3-B1A5-A3FDB8C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9C0EE-A510-4E83-8944-9E9BCBF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185EE-CA12-481D-AD27-596D9D56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60783-CD36-4796-985D-E8E0DF5A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E03EE-AEBE-4692-BA99-9AE3D49A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FA9AE-2B23-45CA-827D-39C7CA1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36EC-4E93-4B43-BC0A-27CE9C3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CE850-6E73-4C86-B2BE-D25C2BD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76F3A-3766-4C58-8E2E-DE7EFEF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335-1D76-4548-BF0F-5049AAD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098DC-7C14-414A-9A63-09285A4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DD7C-5ED2-4F15-82D4-CABE68A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12E7-8843-4797-8321-7A31344E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2F17-B391-41DA-AF5F-04A42091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58B8A-8E09-4A8E-A275-B20804CC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5A244-7CE6-436A-97A0-D0FF6072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ED0FA-8E4C-4297-9B0B-FC8AD26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E8E74-3373-4E18-AF0D-4516E9E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DA9ED-A440-45AC-97CF-7B2AC7E0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DDD93-3310-4CAF-8B95-B328C85C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C09-1B26-4BD9-BFDF-98227FD5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FD242-43C7-4C27-8ACA-0DB64DD6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D373F-BF4D-4D99-A2CA-3886523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8A980-8882-486E-93A2-F06F247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C76FA-B1B5-4DB8-B502-30F55CE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0ECB5-3D69-46CD-B2EA-A241AB71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86C65-FDF1-400B-8BD7-7F349D71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7F266-F718-417E-8DBA-7434514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5D08-667A-4CFD-ACAD-C157251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13FB-71F1-4751-9532-3D4B634F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14D1-520F-4A2D-A28D-02A6712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D9B-6CBF-4084-B5D9-92095B4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AB3B-AAE0-443C-84C9-7A4F53D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7C53-9500-4CF8-B236-176336D3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28FF-ADF5-4962-B604-AF34170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C4EA-1E31-424B-9FAC-DA31BA6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87C6-6944-49F9-B7E5-BE3D7C8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34B3-53EB-4FF2-9E39-69209F9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2057-96A7-4E68-AC45-FC41DEC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E6A3-7EFE-4258-A02E-472C3507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D9A9-1EC0-46DC-9D32-7DA5DDF5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6326-6955-46AB-8989-F6C76FCA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616-CD82-45A5-A6D4-8871533A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EB18-45CE-40E9-AEC6-A69EB91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DDD2-2C67-4959-B905-987B026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B52E-65C2-4C6D-8D4F-8790503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74C7-31AA-426C-989C-4E97A3C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7A1A-F80E-4301-9211-2F264A2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2EAC-40D2-4680-A26D-7818815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4C0F-0347-4529-B7CA-5BAA82C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9373-DBA3-4477-8202-08AB03E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EF1F7-4A9E-40FC-835D-022BB7D5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4892-C1CE-47A9-9B3A-5B44778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F8F-0088-4FD9-9C4C-E272762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B1FE-F9B8-4CF5-B694-A9A40A2C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FC96-A228-41C1-A3B4-9A7FF096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81254-7D94-4086-BD8A-B37155B1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1316-D406-476F-923E-B209158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87D6-47BF-4B5A-A1A0-07FEC8D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FABC-6CC4-4148-90F9-3DDA743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16E8-FD85-4026-86D5-626905EF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BC314-DD50-4551-B295-F216B7A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A1EF-E986-4DCD-B433-DE5CE4B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9844-75E6-4377-9994-AC45AF1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35E-2099-4B3F-B9C6-8471A9D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E50F-64F6-4AD0-9A04-7361F7CB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2769-DA71-43FB-98DA-3F28D08C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8666-0AE8-4E75-BAE8-CFAEC739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6793F-26DB-421B-B2A9-AE47879A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B104-401E-498D-AEB0-042E578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41B3-36CA-41BD-AEB9-B04A4CE4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B6FD-E229-456B-98F7-C8C7867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7689-E844-4538-891D-44EC4BF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ECF0-78CD-4159-89F9-2979B94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694D-925B-4667-B239-C10EFE9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1B6-31D5-48A7-B5D9-8C34A03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3EE3-5D4C-4D1D-9914-0354187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F6F4C-E690-4C13-96C2-755347D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135E-89D4-4EFA-A3D9-7975D69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B292-39F9-44AF-982F-94ACCD4C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0066-F079-444F-A042-A7CAA9CB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613A-00BE-4435-BCFE-981A1B1C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A109-61B8-4057-9154-719FF54B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D67D-51A4-42CB-A76B-46F856B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8CF86-FCCF-4E68-9050-F9324B9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F102-B21E-4669-99E4-614EA12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FE4-00ED-4E4F-914E-60A95E6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6D07-F1BE-4825-9162-8227A9C1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9C20-791E-4193-BD20-E327BB6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B5B3-4A7C-4449-B920-F826AC0B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4504-B74A-43CB-BEDB-977185A8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F4D0-EFC3-4496-BA50-0D0D003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E369D-E658-466B-9BF2-8E6CF391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245D-A426-4674-A6BC-0BD0578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E9B04-28EA-4CD7-94B9-61B737F6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66B39-C240-4084-8648-6A87235E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7DFC-EC69-48E2-8362-FE912919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369-D12D-4358-8538-05C1D41C6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04E0-1525-4C5D-9F4F-E6162990BA5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55C-477B-4461-9282-2684E891D4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E48-292C-482E-9EE3-F37EC67E49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613-A9A6-43B0-912F-7627BA31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4BE-6793-48FD-8870-972FB4362B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52F-7F2B-48C3-AEBA-6A20D2BDBF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202E-DE36-440C-9FE8-4D0ACB3F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7A2-04EA-421D-8AFC-061C3A61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BF9-30C3-47D1-B010-A09D6723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B9A-2DF4-44D8-B8FD-C5B3989A4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257-3AA2-469D-99D7-37726085B9C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Forte"/>
              </a:rPr>
              <a:t>Mi vacaciones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Madrid,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990720" y="76104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Dia u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2895480"/>
            <a:ext cx="746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Hola Jesú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Llegué en la hotel es muy grande y bonita. Hoy a veces lleve y a veces nubes entonces fui el museo del prado es muy interisante y bonitas. No fui al a playa pero yo deseo ayer.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5" name="" descr="The Prado Museum in Madrid, Spain"/>
          <p:cNvPicPr/>
          <p:nvPr/>
        </p:nvPicPr>
        <p:blipFill>
          <a:blip r:embed="rId1"/>
          <a:stretch/>
        </p:blipFill>
        <p:spPr>
          <a:xfrm rot="1782600">
            <a:off x="6248160" y="5335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 rot="20103000">
            <a:off x="152280" y="38052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 d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066320" y="2286000"/>
            <a:ext cx="7239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l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y fui al a playa es muy diversión. Yo tomar el sol y nado en la mar y bueco tambien. No praticar el surfing. llevé el traje de baño, sandalias y un camis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io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 rot="20341800">
            <a:off x="-152280" y="228600"/>
            <a:ext cx="304776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T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¿Cómo está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 soy muy bien. Hoy fui excursionism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iking) es mu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ajante, vi mucho aves bonitas y colorid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pués fui un restaurante es muy bien yo había pa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 rot="1955400">
            <a:off x="6324480" y="53316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 quatr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o es tu sema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 fui vi a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uegos artificiales es muy spectaulares pero a principios de yo dormía en es muy consada de ayer tambien yo compro un regal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f6f8"/>
                </a:solidFill>
                <a:latin typeface="Tahoma"/>
              </a:rPr>
              <a:t>último día</a:t>
            </a: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 mi último día es muy triste acabo de llegar en el aeropuerto a punto de subir el avion mi vacationes es muy interisante 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sió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ios madri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rot="19970400">
            <a:off x="533160" y="685440"/>
            <a:ext cx="28191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5:24Z</dcterms:created>
  <dc:creator>intinarellijar</dc:creator>
  <dc:description/>
  <dc:language>en-US</dc:language>
  <cp:lastModifiedBy>Jared Intinarelli</cp:lastModifiedBy>
  <dcterms:modified xsi:type="dcterms:W3CDTF">2011-12-01T22:04:54Z</dcterms:modified>
  <cp:revision>6</cp:revision>
  <dc:subject/>
  <dc:title>Mi vacaciones </dc:title>
</cp:coreProperties>
</file>